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jpeg" ContentType="image/jpeg"/>
  <Override PartName="/ppt/media/image19.jpeg" ContentType="image/jpeg"/>
  <Override PartName="/ppt/media/image18.jpeg" ContentType="image/jpeg"/>
  <Override PartName="/ppt/media/image20.wmf" ContentType="image/x-wmf"/>
  <Override PartName="/ppt/media/image5.jpeg" ContentType="image/jpeg"/>
  <Override PartName="/ppt/media/image26.jpeg" ContentType="image/jpeg"/>
  <Override PartName="/ppt/media/voltage.wav" ContentType="audio/x-wav"/>
  <Override PartName="/ppt/media/image8.jpeg" ContentType="image/jpeg"/>
  <Override PartName="/ppt/media/image10.jpeg" ContentType="image/jpeg"/>
  <Override PartName="/ppt/media/image29.jpeg" ContentType="image/jpeg"/>
  <Override PartName="/ppt/media/MSj03882720000%5B1%5D.wav" ContentType="audio/x-wav"/>
  <Override PartName="/ppt/media/image6.jpeg" ContentType="image/jpeg"/>
  <Override PartName="/ppt/media/image28.jpeg" ContentType="image/jpeg"/>
  <Override PartName="/ppt/media/whoosh.wav" ContentType="audio/x-wav"/>
  <Override PartName="/ppt/media/image27.gif" ContentType="image/gif"/>
  <Override PartName="/ppt/media/image9.jpeg" ContentType="image/jpeg"/>
  <Override PartName="/ppt/media/image7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182-5871-4C11-B8E1-D58236D4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36F-7A04-4E11-A482-712CF92A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683-F492-4E6E-8BA5-341FFBD7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193-C4AC-4721-A3F0-7F51C48B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EB0-3678-4D74-A2E8-1D34FE6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090-46C7-4299-9A02-07128B20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EEA-B927-4727-BD6D-361F40C0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D54-F261-4BC0-A6E1-4F3A6A4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D0B-2AFB-4EBF-8781-7631C9D1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467-71DE-45F6-BAB5-BEA03995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D78-8833-4573-AC81-7E45A9A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73D-7E76-4F9C-BEDC-651F057F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0AC6-C2BB-41A1-ABB5-1085D0B9D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MSj03882720000%5B1%5D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audio" Target="../media/MSj03882720000%5B1%5D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voltage.wav" TargetMode="External"/><Relationship Id="rId4" Type="http://schemas.microsoft.com/office/2007/relationships/media" Target="file:///tmp/home/.config/libreoffice/4/user/gallery/voltage.wav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eb2.uvcs.uvic.ca/elc/studyzone/330/grammar/futwil.htm" TargetMode="External"/><Relationship Id="rId3" Type="http://schemas.openxmlformats.org/officeDocument/2006/relationships/hyperlink" Target="http://web2.uvcs.uvic.ca/elc/studyzone/330/grammar/gofut.htm" TargetMode="External"/><Relationship Id="rId4" Type="http://schemas.openxmlformats.org/officeDocument/2006/relationships/hyperlink" Target="http://www.englishpage.com/verbpage/verbtenseintro.html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646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Future Tense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MiraCosta College Logo"/>
          <p:cNvPicPr/>
          <p:nvPr/>
        </p:nvPicPr>
        <p:blipFill>
          <a:blip r:embed="rId3"/>
          <a:stretch/>
        </p:blipFill>
        <p:spPr>
          <a:xfrm>
            <a:off x="8001000" y="6324480"/>
            <a:ext cx="457200" cy="31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772400" y="5562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isti R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5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9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ractions with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752480"/>
            <a:ext cx="2971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447920"/>
            <a:ext cx="3581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friend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s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ia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wil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will not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nunciatio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5128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: 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Conversations for Offering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26088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:  “Will” for offering hel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ill you say?  Write a short off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lephone is ringing.  I’m in the sh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car won’t st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to be at work right now, and the babysitter isn’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music is too loud.  I can’t sl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ooks are so heavy.  My back feels like it’s break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’t understand this gram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a job interview in Encinitas, but I don’t know how to get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’s Susie?  She’s l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las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+ going to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for plans, prearranged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lass exampl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289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e + going to + ver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 + subject + going to + verb +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bject + be + not + going to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381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s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friend is going to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s are going to =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nunciation Practi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Be going t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48160" cy="44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o future: be going to +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(take) a vacation nex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(study) art at San Diego State 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(have) a party next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(buy) a new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friend and girlfriend (get) marr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(look) for a new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ss (give) everyone a pay 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udent (be) absent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(no spend) any more mone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76720" y="2714760"/>
            <a:ext cx="5181480" cy="3584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either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wi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e going 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you cho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ll +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 going to +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for PREDICTIONS about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Words for Futur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476960" cy="52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MSj03882720000%5B1%5D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34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re your predictions about the fu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3121200" cy="3944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scientists create genetic disas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219640" cy="521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004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2004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8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85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44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8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we all live in space one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83876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ill win the next World Cup Soccer tourn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OWNED PICTURES/PICS: Soccer Try-outs - Is anybody here serious about joining my team?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089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743200"/>
            <a:ext cx="3962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raz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rgenti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ex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er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Fr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e United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6252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whoosh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Other future predi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roup work:  Write 3 - 5 predictions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7800" y="95400"/>
            <a:ext cx="8607600" cy="6457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 Future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Links to sites for practic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ll v. Be going t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(exercises 18, 19,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0010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60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Ways to Express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 GOING TO and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ject + be + going to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ject + will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86200" cy="4934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911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decision made now for future action (not a plan, not prearrang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1127160" cy="130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267440" cy="360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ond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ary off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o something for someon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sking someone to do some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487692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5053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rd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ful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638360"/>
            <a:ext cx="4419720" cy="3714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3962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urth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tions to u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+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625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fth situ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886200" cy="2408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73080"/>
            <a:ext cx="8534160" cy="6335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Will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Will + subject + verb +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Neg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ubject + will + not +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4:53:23Z</dcterms:created>
  <dc:creator>Kristi Reyes</dc:creator>
  <dc:description/>
  <dc:language>en-US</dc:language>
  <cp:lastModifiedBy>Master_Image</cp:lastModifiedBy>
  <dcterms:modified xsi:type="dcterms:W3CDTF">2007-02-08T19:35:41Z</dcterms:modified>
  <cp:revision>15</cp:revision>
  <dc:subject/>
  <dc:title>Slide 1</dc:title>
</cp:coreProperties>
</file>